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bomb.wav" ContentType="audio/x-wav"/>
  <Override PartName="/ppt/media/explod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5CF-38BF-4904-9BF8-E0334B25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373-F294-4D75-82A2-B03BF110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D35-E5CE-4E25-9B7D-3211F192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3E2-0E20-4BC1-8EC2-B04E496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8B6-088C-407A-82B3-1E31819E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784-7A4E-4A4C-AEF4-364D3E31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D45-F141-43FE-AC01-1B969902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02D-8A26-41DD-866C-F0252654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6E2-4126-49EF-B993-32BE546D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C15-F98F-487A-8D2D-BA98F803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756-3059-43B9-9315-127371C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A0D-06DF-4029-997A-5499940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B4F1-4003-41D8-890A-8ED2360AC4C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explode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265920" y="33336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day’s Less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68360" y="170028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note down some of the poetic techniques used in the po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copy them up fo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give your own examples of the technique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Consonance</a:t>
            </a:r>
            <a:r>
              <a:rPr b="0" lang="en-GB" sz="4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743280" y="404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consonant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und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419640" y="3994200"/>
            <a:ext cx="540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i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 p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Gl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r ha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mm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Arrow 2"/>
          <p:cNvSpPr/>
          <p:nvPr/>
        </p:nvSpPr>
        <p:spPr>
          <a:xfrm>
            <a:off x="2340000" y="429264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eft Arrow 5"/>
          <p:cNvSpPr/>
          <p:nvPr/>
        </p:nvSpPr>
        <p:spPr>
          <a:xfrm>
            <a:off x="2411280" y="5732640"/>
            <a:ext cx="792360" cy="576000"/>
          </a:xfrm>
          <a:prstGeom prst="lef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906480" y="44370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979560" y="5805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Sibilance</a:t>
            </a:r>
            <a:r>
              <a:rPr b="0" lang="en-GB" sz="4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095640" y="404640"/>
            <a:ext cx="60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 or sh so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 These sounds can be at the beginning, inside, or end of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800" y="6156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203640" y="3068640"/>
            <a:ext cx="5545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 example is the verse from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Edgar Allan Poe'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The Rav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"And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lke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 u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rtain r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ling of each purple curt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tice how the ‘c’ i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rt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 sibilance. It is the s or s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remember that is sibi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why ‘curtain’ wouldn’t be an example of sibilance as it is a ‘k’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776920" y="431316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58520" y="378936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/   =   stressed 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 =   unstressed syl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012000" y="3646440"/>
            <a:ext cx="2952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263700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Rhythm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140360" y="208080"/>
            <a:ext cx="50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also two main types of syllable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es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unst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es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syllable is the part of the word with two or more syllables in it that is said the loud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63080" y="5553000"/>
            <a:ext cx="90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Peter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Forecas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Never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0" y="5157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2400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/  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x   /   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Structure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92360" y="981000"/>
            <a:ext cx="540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way that the poem is written. It will usually be in little paragraphs, which we cal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TANZA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Look out for where full stops and commas are – they direct you how to read the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hythm and syllables (called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e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Contrast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19640" y="1484280"/>
            <a:ext cx="54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 difference between two or more ideas. This could be the difference (and similarities) between two poems or even two ideas within a po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-1836720" y="263700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Rhyme Scheme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419640" y="404640"/>
            <a:ext cx="52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ast word of a line is given a letter. Each word which rhymes with it is given the same letter. If the word at the end of a line doesn’t rhyme with any others, it is given a new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635280" y="3789360"/>
            <a:ext cx="5184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The ghost wandered through the hall,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Rattling its chains all the while.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It came to a door and then a wa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Floating through them all in sty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24720" y="3716280"/>
            <a:ext cx="43200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250920" y="170028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-396720" y="2852640"/>
            <a:ext cx="81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Tahoma"/>
              </a:rPr>
              <a:t>Metaphor </a:t>
            </a:r>
            <a:r>
              <a:rPr b="0" lang="en-GB" sz="4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GB" sz="5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556000" y="1628640"/>
            <a:ext cx="59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564000" y="549360"/>
            <a:ext cx="511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arison, when one thing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id to be another, not using “as” or “like” to describ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454560" y="414972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man is bigger than a hous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366360" y="5516640"/>
            <a:ext cx="57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he is a real pain in the neck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-3132000" y="256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ahoma"/>
              </a:rPr>
              <a:t>Simile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132000" y="98100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comparison, using “as” or “lik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71640" y="429264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 plump as a cush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700360" y="5445000"/>
            <a:ext cx="54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He’s as skinny as a rak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-2484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Tahoma"/>
              </a:rPr>
              <a:t>Alliteration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GB" sz="44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356000" y="260280"/>
            <a:ext cx="435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n the first letter of two or more words, usually beside each other is repea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140360" y="458136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ntal Mikey made me go ma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-1765440" y="278136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Onomatopoeia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067280" y="476280"/>
            <a:ext cx="50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a word is written like it soun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788000" y="4149720"/>
            <a:ext cx="500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A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LL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5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1765440" y="278136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Impact"/>
              </a:rPr>
              <a:t>Personification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132000" y="33336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476280"/>
            <a:ext cx="50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iving human characteristics or behaviours to an inanimate ob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40360" y="4508640"/>
            <a:ext cx="50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winked one last time as she set for the da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Rhythm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095640" y="404640"/>
            <a:ext cx="60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number of syllables in each line. Each line should have roughly the same amount as the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1800" y="6156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03640" y="3789360"/>
            <a:ext cx="5545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wind buffets the boulders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hower stalks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grass waves back and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this is nothing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278136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Impact"/>
              </a:rPr>
              <a:t>Assonance </a:t>
            </a: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43280" y="40464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Deliberate repetition of consonant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ound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in two or more words in short succe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419640" y="3994200"/>
            <a:ext cx="5400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re’s a m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, l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, ab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 this h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o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he m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’s h</a:t>
            </a: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 Arrow 2"/>
          <p:cNvSpPr/>
          <p:nvPr/>
        </p:nvSpPr>
        <p:spPr>
          <a:xfrm>
            <a:off x="2340000" y="4292640"/>
            <a:ext cx="792000" cy="576360"/>
          </a:xfrm>
          <a:prstGeom prst="left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eft Arrow 5"/>
          <p:cNvSpPr/>
          <p:nvPr/>
        </p:nvSpPr>
        <p:spPr>
          <a:xfrm>
            <a:off x="2411280" y="6165720"/>
            <a:ext cx="792360" cy="576360"/>
          </a:xfrm>
          <a:prstGeom prst="lef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909360" y="443700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o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980640" y="6237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”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8:48:34Z</dcterms:created>
  <dc:creator>Darren</dc:creator>
  <dc:description/>
  <dc:language>en-US</dc:language>
  <cp:lastModifiedBy>Darren Gibb</cp:lastModifiedBy>
  <dcterms:modified xsi:type="dcterms:W3CDTF">2012-01-10T20:16:15Z</dcterms:modified>
  <cp:revision>6</cp:revision>
  <dc:subject/>
  <dc:title>Slide 1</dc:title>
</cp:coreProperties>
</file>